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4930-B4D9-41D6-A142-F86DA7B8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37E6-EF88-4F91-924C-D629E70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C802-4CCF-4507-91A9-DB83ADED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0C47-CC89-43C7-BC01-4D959537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B3F3-5C7F-46EC-ABA2-9CEB28EF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BA90-9FE3-4919-B077-2216F6C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121C-556F-46E3-8D47-4EFEE4AE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465-0DC4-45E3-8DAD-405934F3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705-F54B-4FA4-89EB-E89DE1F3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12C3-036B-48EF-B3BB-292C03FB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8D3-7E35-4335-AAA2-0B40A93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AEDC-68F5-415B-B4B3-9AD5E8F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4B81-7193-4A27-9AE9-70B0790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E213-BB72-4C56-806F-9920A01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A86-AB63-41B6-8F4B-500E891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82AF-BCC5-4186-8499-7873E96E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F948-08E8-4DEF-9874-72569A47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19DA-BF61-4B5C-80AE-4A4DEB0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8087-720C-4CE2-B1F9-565F350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927-A674-4471-9F20-1C5EDC06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8150-C997-4195-AF24-D2CD231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B64F-3E88-4206-B187-0C14B199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F5A8-E4EE-448C-9F41-0062144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9199-4DCF-47D0-80A4-71D59C5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83B-9C98-47A3-92C4-57758761D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2B72-5DD5-4B8A-9D54-DBE8D3D7C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科研项目标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研究科室及负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汇报日期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15-00-0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1120" y="15998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ffffff"/>
                </a:solidFill>
                <a:latin typeface="Arial"/>
                <a:ea typeface="华文隶书"/>
              </a:rPr>
              <a:t>汇报完毕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课题的目的、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课题的研究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技术路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知情同意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患者在临床方案中的权益、风险、补偿、保险及保密隐私方面的内容。请另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知情同意书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附件，以备伦理委员会参考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按照红色字体提示准备内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完成以后请删除红色字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附上完整版知情同意书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受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注：是指对于受试者本人的受益，描述应该真是客观准确，避免过于夸大、绝对、不严谨的描述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风险及保护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注：存在风险必定需要有对应的风险防控及应对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补偿（如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注：有无补偿需要有明确的描述，涉及补偿的要有具体的金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保密隐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3:04:34Z</dcterms:created>
  <dc:creator>ec02</dc:creator>
  <dc:description/>
  <dc:language>en-US</dc:language>
  <cp:lastModifiedBy>User</cp:lastModifiedBy>
  <dcterms:modified xsi:type="dcterms:W3CDTF">2022-01-29T08:06:3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