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F7FC-4305-4BAA-B9F9-3DF6B086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6E0D-7F59-40E7-A881-62B90EF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0C2E-DB58-4399-A525-CDAE9D28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14F0-EC7C-4DB1-A983-38965E7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699E-B6C0-425E-972F-A191A39A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33B-6F4C-4F49-8E57-8E8330C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E85-02F5-4EBF-B3F3-90323D27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799F-322F-41FA-9DCE-B415233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74E8-DC9C-43B9-8944-843D6B5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E39C-0817-47DF-B70C-C8AEC8C0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E438-3F18-4629-99DB-8CADCE3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5AC8-E151-4470-B53B-0FD15915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37E-4718-47F0-BAD5-CC5430E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361-BEDA-4456-A3AA-1C5172C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64FE-0D90-4CE0-9B65-65E5A97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4E04-5537-43DB-8C1C-CBC3991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AA4D-4341-4328-A2AB-0E6A6667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8333-ACD4-44E1-B6D9-0752906D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D06A-E22D-4559-9022-1B9DA6FD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0D2F-397E-416C-B210-8E7970F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432C-0B91-4052-AB26-3FDB652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2A2C-F796-46B5-92E9-C114B78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ACFA-43B4-4C6C-B3F0-D0F0C66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BE1B-0533-4C83-AB48-0C047C6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720-BADE-49B3-AC2F-7E3B38E26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0C9-77D7-4CDF-837E-32AD3B907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科研项目标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研究科室及负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汇报日期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15-00-0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1120" y="15998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ffffff"/>
                </a:solidFill>
                <a:latin typeface="Arial"/>
                <a:ea typeface="华文隶书"/>
              </a:rPr>
              <a:t>汇报完毕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课题的目的、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课题的研究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技术路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知情同意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患者在临床方案中的权益、风险、补偿、保险及保密隐私方面的内容。请另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知情同意书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附件，以备伦理委员会参考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按照红色字体提示准备内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完成以后请删除红色字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附上完整版知情同意书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受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注：是指对于受试者本人的受益，描述应该真是客观准确，避免过于夸大、绝对、不严谨的描述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风险及保护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注：存在风险必定需要有对应的风险防控及应对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偿（如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注：有无补偿需要有明确的描述，涉及补偿的要有具体的金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保密隐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3:04:34Z</dcterms:created>
  <dc:creator>ec02</dc:creator>
  <dc:description/>
  <dc:language>en-US</dc:language>
  <cp:lastModifiedBy>User</cp:lastModifiedBy>
  <dcterms:modified xsi:type="dcterms:W3CDTF">2022-01-29T08:06:3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